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095590-5259-410E-98A0-11D036935D0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012A32-237A-44F8-8801-795E61B5684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444E9C-5285-4A89-BE07-0C8DF20D749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6A5D05-7946-476C-AAE8-0D5D9523A59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8EE6FC-90C3-4E85-A569-54432166397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5DB3CB-7A65-4F0E-9796-39A39F07404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D043D1-C073-4FB8-BE37-F38C0BC3E33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292189C-343F-4B5D-8BC5-9F195811844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D6B6F7-A275-4104-B49E-896C88981E0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7599EB-3D35-4E3F-9D9A-034E05253EB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F17D56-E722-40C0-B0D7-5E54A938A59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E32DB6-5634-4FEE-8962-39C39EECB2E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2102C0-F38F-498F-9433-944E8D16479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3FB16-7AC6-423C-AE33-6463C2099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A4C60-9D02-40A6-A2B0-CB2CE1C1C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08FC81C-D07F-4845-8087-6F878C0EA5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841769AC-A710-4421-93D2-74FEE464446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E5D63FB2-D807-4FD0-A682-E68378E4A8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2DBE13B-D8A0-4B9D-8756-6049C66F7C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3F53202-0F99-45AD-A6F6-56DE95B2CA6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DDFCD4F-D005-4527-8734-71A4A0A01C5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04B3307-87B7-44C4-B2D1-DB973A9DF05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9F916BCC-8AB5-480D-B4C4-0718676941A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55E1F0F5-33CA-49F8-891A-F0783E5805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5A656-6793-4CC7-B6BB-D26C31B28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5F4D1-EA55-4735-8A7B-FCA990B04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B9D6591-7FE0-462D-B78A-E59C5955AE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9926D0C-3AEB-41BF-9B25-76DA1C7C0E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E3B051C-F5FD-40F6-8B7D-2DBAA66892D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7E973B4-E312-4793-91BB-D651FA4AA3D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63A5949-6FB5-41FF-AD68-2B12D60AB35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9D68FA1-5D53-4561-813E-BBF0D3AEBA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16F0CE-9DF9-4984-8B01-193449D22A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61890C3-CA44-464E-BE2C-516409326B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E938F9-3EBD-4130-B42C-A778EA1753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2BAEF90-74BA-4F6A-818F-D9803DEDE5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9C30BCC-8995-432C-8695-ECFAE2B63B4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AAF900D-B85F-4120-8F4E-ADDFACE91C4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59E06-4949-4A49-927C-ABB62D6A4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5175E2-2655-4D69-97C0-ECE642103D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62BAD75A-A346-40F7-A56A-27E71A78FC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ADBF3C1-C7F8-4690-8A72-5183578D53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80D45E6D-84EE-40EA-A4D0-01A955A3A5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E7003E2-3DEA-48B2-9DB6-1E270A5BA2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5E2F9-F7FA-4C44-86CB-E3BF5543E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421F2BCB-CD64-4B0D-A326-0541E99170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C74316F-A14C-4DCD-A533-DAFE17F67B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0400B5E-2ACA-4691-A1F3-2592D139AB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2EBD201-7D89-49B9-B138-425CD3D123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F2C76E5-3CCA-4D80-BB56-E2C3539A078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5AD1CBB2-3699-418B-BF90-D693EE59CD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A69CBDF6-431C-4D79-93FE-C9F9B58CF2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0307F9-8135-4126-94B8-1117AE9999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B24BDEB-0C1D-4115-8867-0A52084A2B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EA4D7DA-143E-473A-867C-152F0FAC53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8F9C9-55A1-4FC6-890F-BD6643887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7848EC1-F004-45F7-84F1-F4737AEA968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D6D1144-6735-42ED-9DF5-FE3C61420A7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0DBC2B55-C0BA-432F-B35B-1CF4C1C3C07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221B975-1340-4494-B7E2-F66B61C36EC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A92FFCF-8198-40F1-8BAA-E474D0A579C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01E9F9F-82F7-4936-9B59-CC124743F02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336595C-FEBB-4A4F-BFE5-3F09172A78C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12245273-D068-4955-857E-D86CB23CDFB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09BBF845-B42B-41EE-A180-802C21EC850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0D1538B-5905-41C9-A687-B9FF3F01F9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ADF5A-EE57-4159-BDA2-CCA2FE58C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4A05FB69-1710-4614-8367-A39BE3B39C9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F4AE9BA-3861-4131-8C75-867A84B4A65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410A121-7AE1-466E-B89E-7E71DF51910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9D7DF01-4D8A-4110-B774-A2A94FA3DA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A7B44CF8-68B4-4984-B8AB-EECB097890E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5AC7413-343B-440F-90B9-4EC1A6A4006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4E6283E-0020-4BC5-A640-4224889614B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B181F87-CA93-40C6-96FD-9845FA299D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11DC842-0940-4D2E-8FE7-55789C8C3EC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802ACFD-56A7-47AA-9F97-7BA617BA24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4D660-17DE-4E5F-A3DD-E2AFAE454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3680B9BA-BADF-40A2-BE5F-991101DEF5E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3E3FC29-7EA2-4429-A095-4CD3D03993F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DC49A92-FE53-417B-96EE-91D8ADBA40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212E8B1-6542-4957-8453-D23D486E8FC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5FAB0883-9C81-4B7A-A9F6-426A8E773EC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1E4EB23C-17CF-4123-91AA-B9695008FBA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CA60604-55A5-4BAE-ACC1-E1F5318985F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6CC5254-BB2A-4C74-8117-720338A1F06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6C65496-2584-4D72-A0EB-82B21924694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6017D26-8013-46D4-B5A5-DF4F0B4CA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9EC2-FBE0-4FAB-B17D-EA6D5D5EC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70ACF3C-E8EF-4D63-9CCE-7B0CE54EBC3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82ADA6D2-A6FA-4E27-9CC5-07FFE84B2E0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D6D4FF03-A12C-46F9-8726-E22412C10B7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E8A843E-20E7-4641-95B8-FC0BE54D808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3978403-78D7-4845-BBA2-4C16981653A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1038C52B-34AA-4574-826B-B130ACE6119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A107C26-F03F-4164-AE3F-90FC2E268DF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A2E1FB22-4A2E-4697-8FE3-32385C25626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EAE5A27A-3B38-410A-840D-94670287F65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DBFE6B1-47EB-44A1-937A-E368BCA44C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62B9D-0297-4CB6-9E45-E69387B19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B511016-DA9E-496A-8288-13813709C3B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23D1695-F2D3-4598-AA6C-0F7B7750EC4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F2F6732-09A1-4715-9003-FB0A1BD7A9E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7BDB2E34-50D2-46D6-9694-A4926F80174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BE1CDD84-32FD-4528-9765-2F91CBDDDA9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2939E40-1D97-438B-A075-6BAA6BDEEFE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39C82B5-E032-494D-A44D-44FA191D230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ED3CA661-D16E-4A51-8086-679900A25BD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F09108F-0599-4AC0-94FD-D2E86DBC68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E828B21A-D332-469A-B7C1-9D25E7F9D7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27E8-CEB6-4D41-8FFA-B365CBABD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92F5BD97-8FDB-4582-AD59-59EF8416975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FC86A79-3E7C-4C8D-8539-5D715CD101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C533707-9BA9-40B3-ABA2-2B98CA85EA2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BFB84E4-3D13-4EC3-B1F3-538AC750FAA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D0A5FED-4246-4DC8-A5CB-BADEB937F70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3F210751-5DE1-48DF-AC89-244821ECBFB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4F42353A-67D1-4220-950E-6966026BECA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B37FE08-C6AC-4D64-9029-6CFC7EBBF5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DEE98A7-A8F0-4443-8F3F-30336A50FF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866215B-F633-4402-AFBC-7F6C9C136B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0F9C76-9440-469D-B700-3D2E42175103}"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7986F3-C1D9-4D44-8332-F7774229EC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3D7E4C-C777-46D5-8599-BB05F22F47A4}" type="datetime">
              <a:rPr b="0" lang="lv-LV" sz="1200" spc="-1" strike="noStrike">
                <a:solidFill>
                  <a:srgbClr val="898989"/>
                </a:solidFill>
                <a:latin typeface="Times New Roman"/>
              </a:rPr>
              <a:t>31.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9861C7-5F2F-485E-B454-2D3942678FFE}"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91FF58-AC14-4940-A2DD-28A0D84D19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23544B-FDC2-4B6E-A1B6-88FF2B27428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DA9383-9D6E-46B1-B853-1598774949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4C2C03-3B83-4EDE-903C-AFEFF41947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55A6AB-CF26-4DA8-9C9C-A965677434D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F23E7D-0476-453E-8C1F-45D9104609A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622026-BF15-4341-BC88-312C8AD886A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45AD57-6311-47C5-BD2C-67B4D8A6E71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595F19-49AB-4B2E-AD5B-51EF5A8F73D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4D31F7-0C38-4807-A386-309B0AF6DFA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C79017-607F-4AFB-A3C3-A97F74AC348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FB87A3-2181-4394-9E84-B171BA30C04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CAFF0B-11F1-4BD5-8E34-9FF02FCC01A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607F6A-6DBE-445D-8CBB-BDC6C30123E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B87260-C969-47B6-8107-FD6B5E7D4F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A3E769-46DB-490A-810D-1B53F706CEF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0D197F-BF06-4BA2-8876-62600D302D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